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27389"/>
        <c:axId val="78119152"/>
      </c:barChart>
      <c:catAx>
        <c:axId val="77227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19152"/>
        <c:crosses val="autoZero"/>
        <c:auto val="1"/>
        <c:lblAlgn val="ctr"/>
        <c:lblOffset val="100"/>
        <c:noMultiLvlLbl val="0"/>
      </c:catAx>
      <c:valAx>
        <c:axId val="78119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27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253-17E4-47AF-82B4-6FE90162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0FE-B8DD-4CF9-855C-45C83378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A63-27AC-48B4-8956-AF5D6CEE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A58-2941-46FB-B4D0-5CB54E83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A60-E732-4876-AE00-9E1B89F0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2D4-F078-43E1-BF47-C8FD2BB1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8B6-F243-4962-8784-F9468142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210-4893-46F1-8494-D0C7562C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D37-8785-45FE-9EB5-FA0BF4F6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AC5-5780-41CD-A266-897A036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8DB-4979-4B95-A0D4-52CF120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362-EB7F-4072-B067-813D61F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30B4A-BAE7-4F4C-9A54-EB0E1BD230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