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45237"/>
        <c:axId val="22778385"/>
      </c:barChart>
      <c:catAx>
        <c:axId val="89745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78385"/>
        <c:crosses val="autoZero"/>
        <c:auto val="1"/>
        <c:lblAlgn val="ctr"/>
        <c:lblOffset val="100"/>
        <c:noMultiLvlLbl val="0"/>
      </c:catAx>
      <c:valAx>
        <c:axId val="22778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45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F9D-ACE0-4EC1-93BA-F3FFB74B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779-DDCF-49FA-8581-57249A78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52A-B1FB-428F-B1E6-94A9A435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F44-2134-41E9-AFB6-3AAB9BBC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86F-E931-460B-82EE-72F205C3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228-9A0C-486D-A8C1-0293B48D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BB5-E181-404D-8680-BA3E12B9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702-A5BE-404A-9104-0453ED0A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434-5782-480C-AF2A-B82F043E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F7A-22B4-453F-9C21-FFBD436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6670-696B-46AF-BC74-6F1A82DF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7D8-25F1-4A17-AABD-C2EB8862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4EF9D-02D5-4C65-9FCC-BD24FCCF7E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