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02520"/>
        <c:axId val="97433803"/>
      </c:barChart>
      <c:catAx>
        <c:axId val="64402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33803"/>
        <c:crosses val="autoZero"/>
        <c:auto val="1"/>
        <c:lblAlgn val="ctr"/>
        <c:lblOffset val="100"/>
        <c:noMultiLvlLbl val="0"/>
      </c:catAx>
      <c:valAx>
        <c:axId val="97433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02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FFF-D6A3-4AA1-A6D8-2168C5AC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4F1-C015-41D8-BBE6-738F171A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66F-7A5D-41A5-88E8-1F3CF09B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E11-51A0-4A21-81E7-70B9247A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D58-05FB-4D64-AED4-779E3C98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FDD-2A64-41F2-BEB4-F19EADD5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B46-48D8-4111-955F-1B8B4158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45C-4462-44C4-9591-AB16693C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F82-3AFA-4C0B-AAA1-8404C3A6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CE0-C74F-4ADB-999D-480F190B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3CA-DEDE-4CE8-A0C9-1902A1EA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CA0-0FDC-4AF3-A6F8-A6C0E63A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3F6E0-9143-47DA-928A-8BBB55A1F4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