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51159"/>
        <c:axId val="72617896"/>
      </c:barChart>
      <c:catAx>
        <c:axId val="65151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17896"/>
        <c:crosses val="autoZero"/>
        <c:auto val="1"/>
        <c:lblAlgn val="ctr"/>
        <c:lblOffset val="100"/>
        <c:noMultiLvlLbl val="0"/>
      </c:catAx>
      <c:valAx>
        <c:axId val="72617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51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BC0-3D8E-4756-A9E6-497ADBBD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E36-E346-4978-AACD-1AFF61B4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E1E-D2EC-4DF1-9422-65DAA72D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240-C334-4A42-871E-608C69A1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005-B1F9-4803-8431-D32F3AB9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83B-EAB7-4DA0-ABAB-0E08C365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AEE-D167-4E33-976F-B0E4013B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AF0-6E41-460A-89D4-072C3A46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ABD-2DF3-41D1-BD9E-68924A6A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310-BCE2-4BD3-B8CB-B8F061AB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369-0210-48A8-9813-9636989E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D35-A775-414D-B5D0-4312D3F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72851-1ADD-44B9-8171-D28FE4FC2B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