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01704"/>
        <c:axId val="52999122"/>
      </c:barChart>
      <c:catAx>
        <c:axId val="61601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99122"/>
        <c:crosses val="autoZero"/>
        <c:auto val="1"/>
        <c:lblAlgn val="ctr"/>
        <c:lblOffset val="100"/>
        <c:noMultiLvlLbl val="0"/>
      </c:catAx>
      <c:valAx>
        <c:axId val="52999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01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B59-530C-4D5E-9E0B-0F7F8BEA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B57-A018-4DE9-B913-CA958FB9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AA5-3F5D-470D-81B3-E9435E90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476-BC1A-48D1-9F23-BA473FCD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072-FC15-4AF2-8185-18BCFA85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617-519F-4A9F-AE92-282BFF5E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7B1-1FA9-4305-9098-A9C48695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E2E-B33E-47A7-8C3C-B5B78CF7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542-9591-453E-86C9-7B539359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3F2-AF21-4E3C-83D5-2AA0AA1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817-9F05-4A93-B3DF-DBE044C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16B-C697-422D-9EBE-D586DD93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691DC-8F6B-41F7-ADBA-6CD2AA3BDE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