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72987"/>
        <c:axId val="28891710"/>
      </c:barChart>
      <c:catAx>
        <c:axId val="736729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91710"/>
        <c:crosses val="autoZero"/>
        <c:auto val="1"/>
        <c:lblAlgn val="ctr"/>
        <c:lblOffset val="100"/>
        <c:noMultiLvlLbl val="0"/>
      </c:catAx>
      <c:valAx>
        <c:axId val="288917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729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F8D-9EBD-41FB-84AA-478EF615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BDF-8614-4119-B345-6EB6EC64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A04D-7EC4-4013-8125-51BDB8CA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2BBE-06F5-49F8-8A37-FEF48BD8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FD72-E557-47D1-B9CF-0912DCB1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0B36-EF7E-4A3E-84DB-2D1F475B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01E-A11F-4603-80CB-65311AB0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B55-ED95-4DFA-A1FD-935B5E59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E9D-A29A-414C-98AF-8CD86234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FED-4ADB-4C7F-B84B-9E3FB118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756-FCF4-492F-B6CE-9EA80B09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4C7D-0F91-4903-B073-55FC2E9E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879D4-6B53-4590-A441-2311990C58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