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11652"/>
        <c:axId val="47934955"/>
      </c:barChart>
      <c:catAx>
        <c:axId val="79211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34955"/>
        <c:crosses val="autoZero"/>
        <c:auto val="1"/>
        <c:lblAlgn val="ctr"/>
        <c:lblOffset val="100"/>
        <c:noMultiLvlLbl val="0"/>
      </c:catAx>
      <c:valAx>
        <c:axId val="47934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11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930-7DDC-4218-82AF-7E3ED374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599-44B2-42AC-950C-81C52BD2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133-4B10-4F43-A6E5-EBBCDFD3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090-89A4-4D23-9A4B-84B9FFF8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228-1401-4804-8B9A-FBB056D9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5C7-0799-49D4-8B6A-2E9BCB60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36B-B72C-4E9F-8B47-1C0D9046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E32-FB03-4B7F-85EE-52FB2E03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187-98A8-491D-8BB7-089A143B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DBA-6FA0-4942-A411-1B3CEF66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1A6-2D0C-4569-A8B0-6B4863B3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1BC-9F9F-4827-B83E-CFE0F3A9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BAF8A-9B86-43D7-B6AA-7B857F1777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