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6480"/>
        <c:axId val="52508274"/>
      </c:barChart>
      <c:catAx>
        <c:axId val="77706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8274"/>
        <c:crosses val="autoZero"/>
        <c:auto val="1"/>
        <c:lblAlgn val="ctr"/>
        <c:lblOffset val="100"/>
        <c:noMultiLvlLbl val="0"/>
      </c:catAx>
      <c:valAx>
        <c:axId val="52508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6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E56-9BC3-42D0-B19A-6DD68C3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C5C-996C-4A78-A910-2867EE4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768-E60C-4C6A-8F74-69FB906A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8BF-D2C9-4710-9D46-497E0743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35D-F0DF-4206-92A1-C009A695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7C5-DECA-495A-AA73-61065BE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D52-E365-4CEE-AFD4-0989D596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25F-3DED-49D0-A298-7ADB298A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B84-8A8F-4379-86DC-B80974A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7DE-2550-4DA8-A723-A0EAEBD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C0C-249E-43F7-BA37-859E388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E06-F028-4A84-A3B3-5B8825E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8AE50-486E-490E-BB0D-183F1A39D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