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05327"/>
        <c:axId val="60250273"/>
      </c:barChart>
      <c:catAx>
        <c:axId val="13205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50273"/>
        <c:crosses val="autoZero"/>
        <c:auto val="1"/>
        <c:lblAlgn val="ctr"/>
        <c:lblOffset val="100"/>
        <c:noMultiLvlLbl val="0"/>
      </c:catAx>
      <c:valAx>
        <c:axId val="60250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05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59F-030D-432B-9022-630F9E0C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A51-A2AE-45C8-A43E-9E58D0F1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001-37CD-4462-B349-4E39E38C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46C-9BA8-44FC-925A-854B4060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577-C2C2-4BA4-AD78-27F93564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82F-28AB-4466-9F74-23B7BEB9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D61-4C10-4B93-BE74-F4EF9241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794-EA4F-4195-8D83-61334ACC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521-050A-4EF3-8303-776AA313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C42-E9DC-48FB-87F2-AF2EE416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51B-3E33-4216-A562-F2C73D51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EE6-510E-49B7-9695-60784C9D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F2FB9-376F-43F5-9F52-738AFA15E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