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05731"/>
        <c:axId val="62543946"/>
      </c:barChart>
      <c:catAx>
        <c:axId val="58305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43946"/>
        <c:crosses val="autoZero"/>
        <c:auto val="1"/>
        <c:lblAlgn val="ctr"/>
        <c:lblOffset val="100"/>
        <c:noMultiLvlLbl val="0"/>
      </c:catAx>
      <c:valAx>
        <c:axId val="62543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05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2AC-2E4D-40A8-B76B-680CE883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5CE-8502-4D84-B005-C9F1BEB7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990-053E-4625-BB20-D72FC7AA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4C7-1046-4DD4-A904-6B4A60E6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F7B-3521-48F6-8666-6C2E8025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F95-8922-441E-89D3-900F77EC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E69-D498-4B86-AE78-D30F5911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1AF-7F11-42AC-995B-61C2E09A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CC1-05B2-47B4-8E2D-D9415E60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22E-DAA3-4C92-A452-841BCCA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C1A-91F4-419C-8DD1-475E6FE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77B-9147-49FC-96F3-587F16DD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D9B12-7F1A-4DA3-87CB-57020B3240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